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4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C9A-7E29-4C9C-94A8-D029CDED53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84E5-9759-47FB-B6AD-BB37A43288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8D3-7507-437D-88E3-1F1396F733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715A-A297-4C3D-9EC0-D55D227000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03A-8BA8-43DF-AEAF-5862AA9BA1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007-797D-4CD4-9FA2-8B93E7AF49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432-5329-4456-AFAE-A161BE0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59E-EDDD-46B5-85E4-1A06B37C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BCA-B5CC-42BE-B108-82A4E35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A9C-9D2B-4D76-81B3-8F57355F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D8F-C393-4CF1-8519-21841B28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66C-FE47-44C6-9F39-4137482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0F8-FA48-4814-9235-5A7F74FA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BAB-6D2D-41B7-8C5A-BB2AB00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827-E110-488C-A5FB-0C69A881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CF9-0EB7-45DD-AAEA-36CF89B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E82-ACC8-4C22-8265-D2C763A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3EF-DF1E-4639-9A96-D6946CA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224-EE7B-4486-B583-BA1AF20E8C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tângulo 11"/>
          <p:cNvGrpSpPr/>
          <p:nvPr/>
        </p:nvGrpSpPr>
        <p:grpSpPr>
          <a:xfrm>
            <a:off x="365040" y="463680"/>
            <a:ext cx="6688080" cy="1895400"/>
            <a:chOff x="365040" y="463680"/>
            <a:chExt cx="6688080" cy="1895400"/>
          </a:xfrm>
        </p:grpSpPr>
        <p:pic>
          <p:nvPicPr>
            <p:cNvPr id="49" name="Retângulo 11" descr=""/>
            <p:cNvPicPr/>
            <p:nvPr/>
          </p:nvPicPr>
          <p:blipFill>
            <a:blip r:embed="rId2"/>
            <a:stretch/>
          </p:blipFill>
          <p:spPr>
            <a:xfrm>
              <a:off x="365040" y="463680"/>
              <a:ext cx="66880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28760" y="500040"/>
              <a:ext cx="65721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CaixaDeTexto 8"/>
          <p:cNvSpPr/>
          <p:nvPr/>
        </p:nvSpPr>
        <p:spPr>
          <a:xfrm>
            <a:off x="571680" y="3214800"/>
            <a:ext cx="8072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99"/>
                </a:solidFill>
                <a:latin typeface="Arial"/>
              </a:rPr>
              <a:t>A </a:t>
            </a:r>
            <a:r>
              <a:rPr b="1" i="1" lang="pt-BR" sz="2400" spc="-1" strike="noStrike">
                <a:solidFill>
                  <a:srgbClr val="262699"/>
                </a:solidFill>
                <a:latin typeface="Arial"/>
              </a:rPr>
              <a:t>Cobrança pelo Uso dos Recursos Hídricos nas Bacia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:\Gustavo\Arquivos_de_Imagens\LogoTipoAgenciPCJ\LogoTipoPCJ.jpg"/>
          <p:cNvPicPr/>
          <p:nvPr/>
        </p:nvPicPr>
        <p:blipFill>
          <a:blip r:embed="rId3"/>
          <a:srcRect l="78849" t="0" r="0" b="0"/>
          <a:stretch/>
        </p:blipFill>
        <p:spPr>
          <a:xfrm>
            <a:off x="7000920" y="500040"/>
            <a:ext cx="1555560" cy="1785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3" name="CaixaDeTexto 3"/>
          <p:cNvSpPr/>
          <p:nvPr/>
        </p:nvSpPr>
        <p:spPr>
          <a:xfrm>
            <a:off x="1908000" y="514368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191966"/>
                </a:solidFill>
                <a:latin typeface="Arial"/>
              </a:rPr>
              <a:t>Eduardo Lovo Paschoalott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191966"/>
                </a:solidFill>
                <a:latin typeface="Arial"/>
                <a:ea typeface="MS Gothic"/>
              </a:rPr>
              <a:t>Presidente em exercício do CBH-PCJ e PCJ Federal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571680" y="549360"/>
            <a:ext cx="64292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s das Bacias Hidrográficas dos Rios Piracicaba, Capivari e Jundiaí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 da Bacia Hidrográfica dos Rios Piracicaba e Jaguari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0"/>
          <p:cNvSpPr/>
          <p:nvPr/>
        </p:nvSpPr>
        <p:spPr>
          <a:xfrm>
            <a:off x="642960" y="500040"/>
            <a:ext cx="6357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apaCobrança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Previsão de Arrecadação no ano de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13"/>
          <p:cNvSpPr/>
          <p:nvPr/>
        </p:nvSpPr>
        <p:spPr>
          <a:xfrm>
            <a:off x="0" y="1628640"/>
            <a:ext cx="914400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Federal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7.600.000,00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Paulist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6.50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Mineir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2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341360"/>
            <a:ext cx="91440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plicação dos Recursos das Cobranças PCJ e do FEHIDRO/PCJ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42100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Federal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546120" y="692280"/>
            <a:ext cx="969012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8691480" cy="58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0248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4464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Paulista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76800" cy="37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9880" y="3286080"/>
            <a:ext cx="533412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147600" y="1052640"/>
            <a:ext cx="92916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GRHIs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71680" y="428760"/>
            <a:ext cx="7858080" cy="5238720"/>
          </a:xfrm>
          <a:prstGeom prst="rect">
            <a:avLst/>
          </a:prstGeom>
          <a:ln w="0">
            <a:noFill/>
          </a:ln>
        </p:spPr>
      </p:pic>
      <p:sp>
        <p:nvSpPr>
          <p:cNvPr id="57" name="CaixaDeTexto 2"/>
          <p:cNvSpPr/>
          <p:nvPr/>
        </p:nvSpPr>
        <p:spPr>
          <a:xfrm>
            <a:off x="214200" y="51436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1966"/>
                </a:solidFill>
                <a:latin typeface="Arial"/>
              </a:rPr>
              <a:t>Bacias PCJ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47760" y="907920"/>
            <a:ext cx="949176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2480" y="793800"/>
            <a:ext cx="81108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421000"/>
            <a:ext cx="9144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FEHIDRO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66960" y="757080"/>
            <a:ext cx="7210080" cy="53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177920"/>
            <a:ext cx="764856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6400800" cy="342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305160" y="3579840"/>
            <a:ext cx="583884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358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773360"/>
            <a:ext cx="691200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ISTRIBUIÇÃO D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URSOS EM 2009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TAPA I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8840" y="830160"/>
          <a:ext cx="8715240" cy="5281560"/>
        </p:xfrm>
        <a:graphic>
          <a:graphicData uri="http://schemas.openxmlformats.org/drawingml/2006/table">
            <a:tbl>
              <a:tblPr/>
              <a:tblGrid>
                <a:gridCol w="342720"/>
                <a:gridCol w="2104920"/>
                <a:gridCol w="2067120"/>
                <a:gridCol w="1103040"/>
                <a:gridCol w="1046160"/>
                <a:gridCol w="1074960"/>
                <a:gridCol w="519120"/>
                <a:gridCol w="457200"/>
              </a:tblGrid>
              <a:tr h="234720">
                <a:tc grid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.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Lopes - Margem Direi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.371,6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012,0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.383,6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Capuava - Margem Esquerda, Trecho Av. Ampélio Gazzeta até Ribeirão Quilomb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.723,5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228,4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.952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ção de Interceptor para despoluição do rio Capivari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8.368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.24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0.614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nejamento do interceptor do Rio Jundiaí -Mirim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80.784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.522,6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01.306,6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do Município de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rando nossas águas, resgatando nossa história: educação ambiental pelo Rio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.001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.231,7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1.233,2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31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Corumbat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Corumbataí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63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263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ssoreamento da lagoa Anaeróbia - ETE -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4.751,9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.750,2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7.502,15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grama de Redução e Controle de Perdas de Àgua na área Urbana no Município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.773,8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74,8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748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Pedreira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397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6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863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co de Dados Georreferenciados com Ênfase em Recursos Hídrico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.639,1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879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.51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Gerenciamento de Recursos Hídricos do município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3.672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.224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4.896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CaixaDeTexto 5"/>
          <p:cNvSpPr/>
          <p:nvPr/>
        </p:nvSpPr>
        <p:spPr>
          <a:xfrm>
            <a:off x="330120" y="11592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85960" y="3429000"/>
          <a:ext cx="5715000" cy="2286000"/>
        </p:xfrm>
        <a:graphic>
          <a:graphicData uri="http://schemas.openxmlformats.org/drawingml/2006/table">
            <a:tbl>
              <a:tblPr/>
              <a:tblGrid>
                <a:gridCol w="3500280"/>
                <a:gridCol w="1143000"/>
                <a:gridCol w="1071720"/>
              </a:tblGrid>
              <a:tr h="469800"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s de Us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açã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çamento de carga orgânica DB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Kg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sição de baci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CaixaDeTexto 9"/>
          <p:cNvSpPr/>
          <p:nvPr/>
        </p:nvSpPr>
        <p:spPr>
          <a:xfrm>
            <a:off x="1285920" y="554040"/>
            <a:ext cx="65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62699"/>
                </a:solidFill>
                <a:uFillTx/>
                <a:latin typeface="Arial"/>
              </a:rPr>
              <a:t>Valores da Cobrança nas Bacias PCJ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3"/>
          <p:cNvSpPr/>
          <p:nvPr/>
        </p:nvSpPr>
        <p:spPr>
          <a:xfrm>
            <a:off x="714240" y="1428840"/>
            <a:ext cx="7786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6 – implantação da Cobrança Federal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7 – implantação da Cobrança Paulist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9 – previsão de implantação da Cobrança Mineir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20760" y="2822400"/>
          <a:ext cx="8572320" cy="25815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EAN  - Serviço de Água e Esgoto de Artur Nogu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sário Três Barr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7.405,5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045,0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.450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EBAVI - Saneamento Básic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jeto Básico do Sistema de Tratamento, Desidratação e Disposição Final dos Lodos ds ETAs I e II no Municípi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257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19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676,1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Autônomo de Água e Esgot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 Projeto Básico da Estação de Tratamento de Água com Respectivo Licenciamento Ambiental no Municípoi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.432,3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144,1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.576,5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Muncipal de Água e Esgoto - SEMA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de Margem Direita do Rio Piracicaba - IMD - 1 Trecho da Ponte Pedro Francisco Prudente à Estação Elevatória EE-1-MD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37.957,7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3.410,4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1.368,2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edade de Abastecimento de Água e Saneamento S/A - Sanasa Campin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Esgotamento Sanitário Santa Bárba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47.920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5.280,0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3.200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13.483.169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6.159.023,9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19.642.192,9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0760" y="1117440"/>
          <a:ext cx="8572320" cy="6429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23920">
                <a:tc gridSpan="8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0760" y="1974960"/>
          <a:ext cx="8572320" cy="83808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(Coletor Tronco) de esgoto da margem direita do Rio Jundiaí - 2a fas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55.573,3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7.167,4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82.740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antação das Ações do Plano Diretor de Combate às Perdas de Água (1a etap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00.05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00.039,2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0.098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280" y="1228680"/>
            <a:ext cx="849636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reendimentos com pendências (em análise): 35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solicitados: R$ 40.023.977,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de contrapartida: R$ 12.888.039,28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ldo disponível estimado: R$ 22.100.000,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prevista de deliberação (Etapa II): 2ª quinzena de maio/09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9"/>
          <p:cNvSpPr/>
          <p:nvPr/>
        </p:nvSpPr>
        <p:spPr>
          <a:xfrm>
            <a:off x="1285920" y="554040"/>
            <a:ext cx="657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262699"/>
                </a:solidFill>
                <a:uFillTx/>
                <a:latin typeface="Arial"/>
              </a:rPr>
              <a:t>Arrecadaçã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71720" y="2143080"/>
          <a:ext cx="7143480" cy="2214720"/>
        </p:xfrm>
        <a:graphic>
          <a:graphicData uri="http://schemas.openxmlformats.org/drawingml/2006/table">
            <a:tbl>
              <a:tblPr/>
              <a:tblGrid>
                <a:gridCol w="1807920"/>
                <a:gridCol w="2684520"/>
                <a:gridCol w="2651040"/>
              </a:tblGrid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Feder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Paulista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724.111,0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779.237,6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2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7.211.880,4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800.000,0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40.715.229,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24.0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9"/>
          <p:cNvSpPr/>
          <p:nvPr/>
        </p:nvSpPr>
        <p:spPr>
          <a:xfrm>
            <a:off x="714240" y="554040"/>
            <a:ext cx="771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Federal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ixaDeTexto 9"/>
          <p:cNvSpPr/>
          <p:nvPr/>
        </p:nvSpPr>
        <p:spPr>
          <a:xfrm>
            <a:off x="857160" y="554040"/>
            <a:ext cx="7643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Paulist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tângulo com Canto Diagonal Aparado 11"/>
          <p:cNvGrpSpPr/>
          <p:nvPr/>
        </p:nvGrpSpPr>
        <p:grpSpPr>
          <a:xfrm>
            <a:off x="298440" y="2322360"/>
            <a:ext cx="8540640" cy="2975040"/>
            <a:chOff x="298440" y="2322360"/>
            <a:chExt cx="8540640" cy="2975040"/>
          </a:xfrm>
        </p:grpSpPr>
        <p:pic>
          <p:nvPicPr>
            <p:cNvPr id="70" name="Retângulo com Canto Diagonal Aparado 11" descr=""/>
            <p:cNvPicPr/>
            <p:nvPr/>
          </p:nvPicPr>
          <p:blipFill>
            <a:blip r:embed="rId1"/>
            <a:stretch/>
          </p:blipFill>
          <p:spPr>
            <a:xfrm>
              <a:off x="298440" y="2322360"/>
              <a:ext cx="854064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95440" y="2595600"/>
              <a:ext cx="7953120" cy="23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nos Comitê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00040" y="271476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FEHIDRO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FEHIDRO + Cob. Federal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FEHIDRO + Cob. Federal + Cob. Paulista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ector de seta reta 6"/>
          <p:cNvCxnSpPr/>
          <p:nvPr/>
        </p:nvCxnSpPr>
        <p:spPr>
          <a:xfrm>
            <a:off x="2356920" y="2927520"/>
            <a:ext cx="471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ector de seta reta 8"/>
          <p:cNvCxnSpPr/>
          <p:nvPr/>
        </p:nvCxnSpPr>
        <p:spPr>
          <a:xfrm>
            <a:off x="2714400" y="3571920"/>
            <a:ext cx="2500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ector de seta reta 10"/>
          <p:cNvCxnSpPr/>
          <p:nvPr/>
        </p:nvCxnSpPr>
        <p:spPr>
          <a:xfrm>
            <a:off x="2642760" y="4285800"/>
            <a:ext cx="786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Conector reto 14"/>
          <p:cNvSpPr/>
          <p:nvPr/>
        </p:nvSpPr>
        <p:spPr>
          <a:xfrm>
            <a:off x="7215120" y="307188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to 15"/>
          <p:cNvSpPr/>
          <p:nvPr/>
        </p:nvSpPr>
        <p:spPr>
          <a:xfrm>
            <a:off x="5286240" y="3786120"/>
            <a:ext cx="128592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to 16"/>
          <p:cNvSpPr/>
          <p:nvPr/>
        </p:nvSpPr>
        <p:spPr>
          <a:xfrm>
            <a:off x="3429000" y="450072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ector reto 17"/>
          <p:cNvSpPr/>
          <p:nvPr/>
        </p:nvSpPr>
        <p:spPr>
          <a:xfrm>
            <a:off x="6858000" y="3786120"/>
            <a:ext cx="16430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ector reto 19"/>
          <p:cNvSpPr/>
          <p:nvPr/>
        </p:nvSpPr>
        <p:spPr>
          <a:xfrm>
            <a:off x="5000760" y="4500720"/>
            <a:ext cx="16430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ector reto 20"/>
          <p:cNvSpPr/>
          <p:nvPr/>
        </p:nvSpPr>
        <p:spPr>
          <a:xfrm>
            <a:off x="6858000" y="4500720"/>
            <a:ext cx="1643040" cy="1440"/>
          </a:xfrm>
          <a:prstGeom prst="line">
            <a:avLst/>
          </a:prstGeom>
          <a:ln w="381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143000" y="64296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4158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FEDERAL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282.283,3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644.884,6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3.558.429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143000" y="335772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38232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PAULISTA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424.825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721.851,6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84120" y="1557360"/>
            <a:ext cx="491976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94240" y="2852640"/>
            <a:ext cx="363060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Rectangle 4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CJ com texto"/>
          <p:cNvPicPr/>
          <p:nvPr/>
        </p:nvPicPr>
        <p:blipFill>
          <a:blip r:embed="rId4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9:32:35Z</dcterms:created>
  <dc:creator>Alexandre Vilella</dc:creator>
  <dc:description/>
  <dc:language>en-US</dc:language>
  <cp:lastModifiedBy>DAEE </cp:lastModifiedBy>
  <dcterms:modified xsi:type="dcterms:W3CDTF">2009-03-11T18:23:55Z</dcterms:modified>
  <cp:revision>724</cp:revision>
  <dc:subject/>
  <dc:title>Apresentação do PowerPoint</dc:title>
</cp:coreProperties>
</file>